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16E-6E74-4905-9DD5-B2B8FC51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C66-10EF-4E18-A867-B8C653A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F7A-CC90-4E0C-9645-A24299BC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A5E-997B-4539-874D-6E5DABBC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448-425B-4AD2-BE7F-4E9A0AE0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92B-99EB-4747-B2DA-0C8BD2E9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BFD-3DB4-4AF5-8CC1-436280F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AEE-45A8-4C84-A0CC-94265D2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75C-8946-495C-AFB6-8DB4DF1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C43-15E3-433F-A66F-DF13080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931-B663-4E83-9D2F-FBCFB1F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CA3-1DA9-48A9-A76A-F754892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E04-411C-46A1-BF3C-DE1B799CF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762120"/>
            <a:ext cx="78487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8000"/>
                </a:solidFill>
                <a:latin typeface="Times New Roman"/>
                <a:ea typeface="隶书"/>
              </a:rPr>
              <a:t>树立信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8000"/>
                </a:solidFill>
                <a:latin typeface="Times New Roman"/>
                <a:ea typeface="隶书"/>
              </a:rPr>
              <a:t>迎接期末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2004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学年下学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初一（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）班家长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533520"/>
            <a:ext cx="8686800" cy="37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考试所反映出来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等生（年级排名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只有一名，全级排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后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同学，其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是差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2666880"/>
          <a:ext cx="7620120" cy="173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及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及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两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及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及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及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37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科科及格：陈凯明     谭楚君     黄嘉欣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科不及格：卢俊贤    卢国麟    雷涛    张晓菲   黄敏渝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二科不及格：严    律    卢    俊    李展鸿   吴畅堃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陈永健    赵健阳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学习建议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在学习上要对自己有更高的要求，不要偏科               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保持优势，争取有一科在班里排前五名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消灭不及格，最差的一科在期末考要有进步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期末考要求在年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名之前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科不及格：钟杰森    姚俊杰    陈铭明    梁颖坤   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     钟嘉瑶    王   玥     郑海燕    许思敏                  严家欣    王东宜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严格要求＋鼓励肯定，督促孩子改正懒散的学习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比较各科成绩，各有侧重，尤其是及格边缘的科目，期末考争取有三科以上及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保持一科优势，并力求该科成绩优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四科不及格的同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树立学习信心，以鼓励肯定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目标明确，选一门孩子最有兴趣和成绩最高的科目，每天做好督促和检查，争取该科及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362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  <a:ea typeface="黑体"/>
              </a:rPr>
              <a:t>本学期数学情况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0"/>
            <a:ext cx="9067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严律   卢俊贤   卢俊   李展鸿   吴畅堃   卢国麟   黄嘉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现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认真，有较强的学习能力和理解能力，本学期每次测验都能及格，成绩较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姚俊杰   陈永健   雷涛   张晓菲   谭楚君  张灵慧  陈凯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现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上基本能认真听讲，但成绩起伏较大，有不及格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存在问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课堂会放松自己，容易自满，要求完成的《学习与探究》甚少同学能全部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复习建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紧迫感和竞争意识，加强心理素质，“平时考试化，考试平时化”，争取每次测验或考试在班级前五名，家长可检查《学习与探究》和试卷完成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533520"/>
            <a:ext cx="7848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钟杰森    王伟杰    陈铭明    李泽文    苏嘉明      董毅达    陈树铿    王    玥    邓青怡    许思敏      严家欣    赵健阳    钟嘉瑶    王东宜    黄敏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现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定的学习基础和学习能力，课堂上能理解并掌握新知识，有学习潜力，但成绩起伏很大，处于及格边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存在问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堂注意力容易分散，一知半解，缺乏对问题的冷静和深入的思考，遇到难题容易放弃，或草草了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复习建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学习效率和解题速度，巩固相应的知识，做好每一次测验的分析，尤其是错题，一定要认真分析纠正。家长可检查孩子试卷改错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457200"/>
            <a:ext cx="8305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丁呈斌   马彦宇   禤立恒   陈一锋   李志毅   陈正石   张优燊   梁颖坤   郑海燕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现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较大的上升空间，但学习能力和学习习惯有待改善，课堂学习效率不高，容易放松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复习建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学习信心和自觉性，客观分析自己的情况，主要做好解一元一次方程和二元一次方程组，书本上公式和定理的记忆。家长可以每天出两道一元方程和二元方程组，提高准确率，把每一张复习卷的填空选择尽量弄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学年下学期期末考时间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:40-3:40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:55-4:5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:40-3:40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:55-4:5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:00-10:00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:30-11:5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:40-4:20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:00-9:40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语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996633"/>
                </a:solidFill>
                <a:latin typeface="Times New Roman"/>
              </a:rPr>
              <a:t>期末考试注意事项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1b3e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本次区统测均实行网上阅卷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请提醒学生准备好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2B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铅笔和黑色的钢笔、签字笔。（两支以上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b3e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数学考试时要求带计算器和尺规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三角板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b3e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b3e95"/>
                </a:solidFill>
                <a:latin typeface="Times New Roman"/>
              </a:rPr>
              <a:t>所有科目的试卷上都不允许使用涂改液、涂改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51640" y="5373720"/>
            <a:ext cx="14256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2536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华文行楷"/>
              </a:rPr>
              <a:t>主要内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华文行楷"/>
              </a:rPr>
              <a:t>一、期中考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华文行楷"/>
              </a:rPr>
              <a:t>二、公布考试时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华文行楷"/>
              </a:rPr>
              <a:t>三、各科任老师布置复习要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华文行楷"/>
              </a:rPr>
              <a:t>四、假期注意事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配合学校期末复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7772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落实背诵的文段和生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周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篇作文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天抽背古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抽查文言文翻译（《三点一测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三点一测》的课外文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诵课文、单词和重点句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政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好时事题（两张复习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好《学习指导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0"/>
            <a:ext cx="84582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长协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注意孩子的学习和休息时间，保证饮食正常，尤其是早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相应减少娱乐活动，尽量给孩子创造好的学习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结合各科复习要求和孩子的实际情况，进行督促或辅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6633"/>
                </a:solidFill>
                <a:latin typeface="华文行楷"/>
                <a:ea typeface="华文行楷"/>
              </a:rPr>
              <a:t>教育是双向的，必须家庭和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6633"/>
                </a:solidFill>
                <a:latin typeface="华文行楷"/>
                <a:ea typeface="华文行楷"/>
              </a:rPr>
              <a:t>     </a:t>
            </a:r>
            <a:r>
              <a:rPr b="1" lang="zh-CN" sz="4100" spc="-1" strike="noStrike">
                <a:solidFill>
                  <a:srgbClr val="996633"/>
                </a:solidFill>
                <a:latin typeface="华文行楷"/>
                <a:ea typeface="华文行楷"/>
              </a:rPr>
              <a:t>学校积极配合才可能取得成效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66"/>
                </a:solidFill>
                <a:latin typeface="方正姚体"/>
                <a:ea typeface="方正姚体"/>
              </a:rPr>
              <a:t>有关注意事项：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一的假期非常关键，处于分化阶段，变动较大，一定要随时留意孩子的动向和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放假前夕，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宋体"/>
              </a:rPr>
              <a:t>发放手册，家长签名验收成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假期劳逸结合，合理安排时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根据自己孩子具体情况布置适当的学习任务，并落实完成情况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可让孩子订立假期计划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066680"/>
            <a:ext cx="8991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肇星夫妇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堂家教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外交部长李肇星和夫人秦小梅教育培养了一个出色的儿子李禾禾，如今就读于哈佛大学工商管理学院，虽才高八斗，学富五车，可他从来不“翘尾巴”，为人谦和，待人真诚，包容大度，热爱社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71600" y="228600"/>
          <a:ext cx="6095880" cy="6356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培养想象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许不劳而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身教的力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懂得相互信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习赞美别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铁要靠自身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要“书呆子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八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父母的罗曼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九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让孩子独当一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十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该出手时就出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十一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挫折也是财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981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期中考试小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9640" y="5703840"/>
            <a:ext cx="1584360" cy="1154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2286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期中考试全班前十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828800"/>
            <a:ext cx="693432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c7066"/>
                </a:solidFill>
                <a:latin typeface="隶书"/>
                <a:ea typeface="隶书"/>
              </a:rPr>
              <a:t>第一名：张晓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c7066"/>
                </a:solidFill>
                <a:latin typeface="隶书"/>
                <a:ea typeface="隶书"/>
              </a:rPr>
              <a:t>第二名：</a:t>
            </a: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谭楚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c7066"/>
                </a:solidFill>
                <a:latin typeface="隶书"/>
                <a:ea typeface="隶书"/>
              </a:rPr>
              <a:t>第三名：</a:t>
            </a: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黄嘉欣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第四名：卢国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第五名：卢  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600200"/>
            <a:ext cx="632448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隶书"/>
                <a:ea typeface="隶书"/>
              </a:rPr>
              <a:t>第六名：李展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隶书"/>
                <a:ea typeface="隶书"/>
              </a:rPr>
              <a:t>第七名：严  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隶书"/>
                <a:ea typeface="隶书"/>
              </a:rPr>
              <a:t>第八名：吴畅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隶书"/>
                <a:ea typeface="隶书"/>
              </a:rPr>
              <a:t>第九名：陈凯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隶书"/>
                <a:ea typeface="隶书"/>
              </a:rPr>
              <a:t>第十名：雷  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9640" y="5703840"/>
            <a:ext cx="15843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各科前三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方正大标宋简体"/>
                <a:ea typeface="方正大标宋简体"/>
              </a:rPr>
              <a:t>语文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：严  律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(95)   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张晓菲  黄嘉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方正大标宋简体"/>
                <a:ea typeface="方正大标宋简体"/>
              </a:rPr>
              <a:t>数学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：吴畅堃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(96)  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卢  俊  卢国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方正大标宋简体"/>
                <a:ea typeface="方正大标宋简体"/>
              </a:rPr>
              <a:t>英语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：李展鸿 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(79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） 张晓菲  谭楚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方正大标宋简体"/>
                <a:ea typeface="方正大标宋简体"/>
              </a:rPr>
              <a:t>政治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：陈永健（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76</a:t>
            </a:r>
            <a:r>
              <a:rPr b="0" lang="zh-CN" sz="4000" spc="-1" strike="noStrike">
                <a:solidFill>
                  <a:srgbClr val="660066"/>
                </a:solidFill>
                <a:latin typeface="方正大标宋简体"/>
                <a:ea typeface="方正大标宋简体"/>
              </a:rPr>
              <a:t>） 卢国麟  谭楚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级进步三十名以上的同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0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974880"/>
            <a:ext cx="87631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严家欣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116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张晓菲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85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许思敏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74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邓青怡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59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黄嘉欣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57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赵健阳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57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吴畅堃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41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黄敏渝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9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梁颖坤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9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陈铭名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5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陈树铿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3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马彦宇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2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王东宜（＋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32</a:t>
            </a:r>
            <a:r>
              <a:rPr b="1" lang="zh-CN" sz="4000" spc="-1" strike="noStrike">
                <a:solidFill>
                  <a:srgbClr val="00cc99"/>
                </a:solidFill>
                <a:latin typeface="隶书"/>
                <a:ea typeface="隶书"/>
              </a:rPr>
              <a:t>）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09480"/>
            <a:ext cx="861084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竞赛“一对一”  胜出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李展鸿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 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谭楚君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47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卢国麟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张晓菲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71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黄嘉欣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41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吴畅堃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39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张灵慧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黄敏渝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31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赵健阳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53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王东宜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30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梁颖坤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74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陈铭名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1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王伟杰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许思敏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49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邓青怡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24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严家欣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02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张优燊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32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 陈树铿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26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陈一锋（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9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19320" y="1447920"/>
          <a:ext cx="7619760" cy="1279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政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28800" y="609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cc99"/>
                </a:solidFill>
                <a:latin typeface="Times New Roman"/>
              </a:rPr>
              <a:t>期中考各科在年级排名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4038480"/>
          <a:ext cx="7619760" cy="1279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政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447920" y="3124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cc99"/>
                </a:solidFill>
                <a:latin typeface="Times New Roman"/>
              </a:rPr>
              <a:t>对比期末考各科在年级排名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41:5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6:11Z</dcterms:modified>
  <cp:revision>31</cp:revision>
  <dc:subject>主题班会课件(分28大类): http://shop62905894.taobao.com</dc:subject>
  <dc:title>主题班会课件(分28大类): http://shop62905894.taobao.com</dc:title>
</cp:coreProperties>
</file>